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772-23FB-4121-AD24-026ECB0F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041-274D-4DC6-A67F-79DBAA8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8D0-CE7E-4C50-9B6A-298B1C5C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B97-6330-4038-8DA0-4DED279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9A42-B4FD-4543-8E6D-0E20BC1B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2A6-7498-4674-81FD-2DC99CB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39B2-352C-48C8-B7F5-9346EA3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638-04C5-46FF-B43F-92C577A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EED1-CB29-47BB-83B3-40C6EAE6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645-7C9C-4110-8B5A-7B809B0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39CC-1DE9-420A-A750-F4A8748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9B7-D1A2-49C5-B885-E895329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2833-0977-4DD2-B61D-7691DF45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9D5A-9B12-4948-9DF1-514D199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F29-FE2C-4FA4-A5C9-A462981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1247-96E9-4DB5-BCD5-B52E3AC4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E882-5949-48AB-BA97-5DD3C4EA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198-002C-4311-8203-42DD99DC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B79-C213-484D-AE56-68AD839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45B-F495-4F18-A317-3592045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6F4-447D-4825-83EB-BC0CED4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834-DA5C-47F7-93CC-18EECA7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E0C-3AFD-4BAA-ACCB-4D4F6E9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B28-C97C-4835-9785-6CCA707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A41-730E-481D-A0CC-8CBF40D7C7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90A-D1C9-4C13-96FF-C3B229B99D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e needed 22 ticket for the whole famili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orman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active, as if asleep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exclusivel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olely, without sharing with oth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inea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escent, ancestry, family, extrac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objectiv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im or end (of an action) go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pinionated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uly attached to one’s own opinion, obstinate, stubbor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rite a paragraph using 5 of the vocabulary words in i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Great Gatsby-2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and 6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 partner and work on map and quote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Journal respo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Ch.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Great Gatsby-4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character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 Setting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ork on Imagery pro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rt Ch. 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sw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 needed twenty-two tickets for the whole family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 for this: In general, spell out numbers that can be written as two wo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cused Freewr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bout a goal you have for after high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cabulary Unit 7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 sentence if it doesn’t have o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ice, one of two or more things offered for cho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blunder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stake or error caused by stupidity or careless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ustod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Care, safekeep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Diminutive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low average, smal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dispe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ive away by scattering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6:45:18Z</dcterms:created>
  <dc:creator>rebecca</dc:creator>
  <dc:description/>
  <dc:language>en-US</dc:language>
  <cp:lastModifiedBy>rebecca</cp:lastModifiedBy>
  <dcterms:modified xsi:type="dcterms:W3CDTF">2009-02-13T17:11:09Z</dcterms:modified>
  <cp:revision>2</cp:revision>
  <dc:subject/>
  <dc:title>DOL</dc:title>
</cp:coreProperties>
</file>